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52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7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4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47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53.xml" ContentType="application/vnd.openxmlformats-officedocument.presentationml.slide+xml"/>
  <Override PartName="/ppt/slides/slide148.xml" ContentType="application/vnd.openxmlformats-officedocument.presentationml.slide+xml"/>
  <Override PartName="/ppt/slides/slide56.xml" ContentType="application/vnd.openxmlformats-officedocument.presentationml.slide+xml"/>
  <Override PartName="/ppt/slides/slide128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50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  <p:sldId id="341" r:id="rId95"/>
    <p:sldId id="342" r:id="rId96"/>
    <p:sldId id="343" r:id="rId97"/>
    <p:sldId id="344" r:id="rId98"/>
    <p:sldId id="345" r:id="rId99"/>
    <p:sldId id="346" r:id="rId100"/>
    <p:sldId id="347" r:id="rId101"/>
    <p:sldId id="348" r:id="rId102"/>
    <p:sldId id="349" r:id="rId103"/>
    <p:sldId id="350" r:id="rId104"/>
    <p:sldId id="351" r:id="rId105"/>
    <p:sldId id="352" r:id="rId106"/>
    <p:sldId id="353" r:id="rId107"/>
    <p:sldId id="354" r:id="rId108"/>
    <p:sldId id="355" r:id="rId109"/>
    <p:sldId id="356" r:id="rId110"/>
    <p:sldId id="357" r:id="rId111"/>
    <p:sldId id="358" r:id="rId112"/>
    <p:sldId id="359" r:id="rId113"/>
    <p:sldId id="360" r:id="rId114"/>
    <p:sldId id="361" r:id="rId115"/>
    <p:sldId id="362" r:id="rId116"/>
    <p:sldId id="363" r:id="rId117"/>
    <p:sldId id="364" r:id="rId118"/>
    <p:sldId id="365" r:id="rId119"/>
    <p:sldId id="366" r:id="rId120"/>
    <p:sldId id="367" r:id="rId121"/>
    <p:sldId id="368" r:id="rId122"/>
    <p:sldId id="369" r:id="rId123"/>
    <p:sldId id="370" r:id="rId124"/>
    <p:sldId id="371" r:id="rId125"/>
    <p:sldId id="372" r:id="rId126"/>
    <p:sldId id="373" r:id="rId127"/>
    <p:sldId id="374" r:id="rId128"/>
    <p:sldId id="375" r:id="rId129"/>
    <p:sldId id="376" r:id="rId130"/>
    <p:sldId id="377" r:id="rId131"/>
    <p:sldId id="378" r:id="rId132"/>
    <p:sldId id="379" r:id="rId133"/>
    <p:sldId id="380" r:id="rId134"/>
    <p:sldId id="381" r:id="rId135"/>
    <p:sldId id="382" r:id="rId136"/>
    <p:sldId id="383" r:id="rId137"/>
    <p:sldId id="384" r:id="rId138"/>
    <p:sldId id="385" r:id="rId139"/>
    <p:sldId id="386" r:id="rId140"/>
    <p:sldId id="387" r:id="rId141"/>
    <p:sldId id="388" r:id="rId142"/>
    <p:sldId id="389" r:id="rId143"/>
    <p:sldId id="390" r:id="rId144"/>
    <p:sldId id="391" r:id="rId145"/>
    <p:sldId id="392" r:id="rId146"/>
    <p:sldId id="393" r:id="rId147"/>
    <p:sldId id="394" r:id="rId148"/>
    <p:sldId id="395" r:id="rId149"/>
    <p:sldId id="396" r:id="rId150"/>
    <p:sldId id="397" r:id="rId151"/>
    <p:sldId id="398" r:id="rId152"/>
    <p:sldId id="399" r:id="rId153"/>
    <p:sldId id="400" r:id="rId154"/>
    <p:sldId id="401" r:id="rId155"/>
    <p:sldId id="402" r:id="rId156"/>
    <p:sldId id="403" r:id="rId1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slide" Target="slides/slide86.xml"/><Relationship Id="rId96" Type="http://schemas.openxmlformats.org/officeDocument/2006/relationships/slide" Target="slides/slide87.xml"/><Relationship Id="rId97" Type="http://schemas.openxmlformats.org/officeDocument/2006/relationships/slide" Target="slides/slide88.xml"/><Relationship Id="rId98" Type="http://schemas.openxmlformats.org/officeDocument/2006/relationships/slide" Target="slides/slide89.xml"/><Relationship Id="rId99" Type="http://schemas.openxmlformats.org/officeDocument/2006/relationships/slide" Target="slides/slide90.xml"/><Relationship Id="rId100" Type="http://schemas.openxmlformats.org/officeDocument/2006/relationships/slide" Target="slides/slide91.xml"/><Relationship Id="rId101" Type="http://schemas.openxmlformats.org/officeDocument/2006/relationships/slide" Target="slides/slide92.xml"/><Relationship Id="rId102" Type="http://schemas.openxmlformats.org/officeDocument/2006/relationships/slide" Target="slides/slide93.xml"/><Relationship Id="rId103" Type="http://schemas.openxmlformats.org/officeDocument/2006/relationships/slide" Target="slides/slide94.xml"/><Relationship Id="rId104" Type="http://schemas.openxmlformats.org/officeDocument/2006/relationships/slide" Target="slides/slide95.xml"/><Relationship Id="rId105" Type="http://schemas.openxmlformats.org/officeDocument/2006/relationships/slide" Target="slides/slide96.xml"/><Relationship Id="rId106" Type="http://schemas.openxmlformats.org/officeDocument/2006/relationships/slide" Target="slides/slide97.xml"/><Relationship Id="rId107" Type="http://schemas.openxmlformats.org/officeDocument/2006/relationships/slide" Target="slides/slide98.xml"/><Relationship Id="rId108" Type="http://schemas.openxmlformats.org/officeDocument/2006/relationships/slide" Target="slides/slide99.xml"/><Relationship Id="rId109" Type="http://schemas.openxmlformats.org/officeDocument/2006/relationships/slide" Target="slides/slide100.xml"/><Relationship Id="rId110" Type="http://schemas.openxmlformats.org/officeDocument/2006/relationships/slide" Target="slides/slide101.xml"/><Relationship Id="rId111" Type="http://schemas.openxmlformats.org/officeDocument/2006/relationships/slide" Target="slides/slide102.xml"/><Relationship Id="rId112" Type="http://schemas.openxmlformats.org/officeDocument/2006/relationships/slide" Target="slides/slide103.xml"/><Relationship Id="rId113" Type="http://schemas.openxmlformats.org/officeDocument/2006/relationships/slide" Target="slides/slide104.xml"/><Relationship Id="rId114" Type="http://schemas.openxmlformats.org/officeDocument/2006/relationships/slide" Target="slides/slide105.xml"/><Relationship Id="rId115" Type="http://schemas.openxmlformats.org/officeDocument/2006/relationships/slide" Target="slides/slide106.xml"/><Relationship Id="rId116" Type="http://schemas.openxmlformats.org/officeDocument/2006/relationships/slide" Target="slides/slide107.xml"/><Relationship Id="rId117" Type="http://schemas.openxmlformats.org/officeDocument/2006/relationships/slide" Target="slides/slide108.xml"/><Relationship Id="rId118" Type="http://schemas.openxmlformats.org/officeDocument/2006/relationships/slide" Target="slides/slide109.xml"/><Relationship Id="rId119" Type="http://schemas.openxmlformats.org/officeDocument/2006/relationships/slide" Target="slides/slide110.xml"/><Relationship Id="rId120" Type="http://schemas.openxmlformats.org/officeDocument/2006/relationships/slide" Target="slides/slide111.xml"/><Relationship Id="rId121" Type="http://schemas.openxmlformats.org/officeDocument/2006/relationships/slide" Target="slides/slide112.xml"/><Relationship Id="rId122" Type="http://schemas.openxmlformats.org/officeDocument/2006/relationships/slide" Target="slides/slide113.xml"/><Relationship Id="rId123" Type="http://schemas.openxmlformats.org/officeDocument/2006/relationships/slide" Target="slides/slide114.xml"/><Relationship Id="rId124" Type="http://schemas.openxmlformats.org/officeDocument/2006/relationships/slide" Target="slides/slide115.xml"/><Relationship Id="rId125" Type="http://schemas.openxmlformats.org/officeDocument/2006/relationships/slide" Target="slides/slide116.xml"/><Relationship Id="rId126" Type="http://schemas.openxmlformats.org/officeDocument/2006/relationships/slide" Target="slides/slide117.xml"/><Relationship Id="rId127" Type="http://schemas.openxmlformats.org/officeDocument/2006/relationships/slide" Target="slides/slide118.xml"/><Relationship Id="rId128" Type="http://schemas.openxmlformats.org/officeDocument/2006/relationships/slide" Target="slides/slide119.xml"/><Relationship Id="rId129" Type="http://schemas.openxmlformats.org/officeDocument/2006/relationships/slide" Target="slides/slide120.xml"/><Relationship Id="rId130" Type="http://schemas.openxmlformats.org/officeDocument/2006/relationships/slide" Target="slides/slide121.xml"/><Relationship Id="rId131" Type="http://schemas.openxmlformats.org/officeDocument/2006/relationships/slide" Target="slides/slide122.xml"/><Relationship Id="rId132" Type="http://schemas.openxmlformats.org/officeDocument/2006/relationships/slide" Target="slides/slide123.xml"/><Relationship Id="rId133" Type="http://schemas.openxmlformats.org/officeDocument/2006/relationships/slide" Target="slides/slide124.xml"/><Relationship Id="rId134" Type="http://schemas.openxmlformats.org/officeDocument/2006/relationships/slide" Target="slides/slide125.xml"/><Relationship Id="rId135" Type="http://schemas.openxmlformats.org/officeDocument/2006/relationships/slide" Target="slides/slide126.xml"/><Relationship Id="rId136" Type="http://schemas.openxmlformats.org/officeDocument/2006/relationships/slide" Target="slides/slide127.xml"/><Relationship Id="rId137" Type="http://schemas.openxmlformats.org/officeDocument/2006/relationships/slide" Target="slides/slide128.xml"/><Relationship Id="rId138" Type="http://schemas.openxmlformats.org/officeDocument/2006/relationships/slide" Target="slides/slide129.xml"/><Relationship Id="rId139" Type="http://schemas.openxmlformats.org/officeDocument/2006/relationships/slide" Target="slides/slide130.xml"/><Relationship Id="rId140" Type="http://schemas.openxmlformats.org/officeDocument/2006/relationships/slide" Target="slides/slide131.xml"/><Relationship Id="rId141" Type="http://schemas.openxmlformats.org/officeDocument/2006/relationships/slide" Target="slides/slide132.xml"/><Relationship Id="rId142" Type="http://schemas.openxmlformats.org/officeDocument/2006/relationships/slide" Target="slides/slide133.xml"/><Relationship Id="rId143" Type="http://schemas.openxmlformats.org/officeDocument/2006/relationships/slide" Target="slides/slide134.xml"/><Relationship Id="rId144" Type="http://schemas.openxmlformats.org/officeDocument/2006/relationships/slide" Target="slides/slide135.xml"/><Relationship Id="rId145" Type="http://schemas.openxmlformats.org/officeDocument/2006/relationships/slide" Target="slides/slide136.xml"/><Relationship Id="rId146" Type="http://schemas.openxmlformats.org/officeDocument/2006/relationships/slide" Target="slides/slide137.xml"/><Relationship Id="rId147" Type="http://schemas.openxmlformats.org/officeDocument/2006/relationships/slide" Target="slides/slide138.xml"/><Relationship Id="rId148" Type="http://schemas.openxmlformats.org/officeDocument/2006/relationships/slide" Target="slides/slide139.xml"/><Relationship Id="rId149" Type="http://schemas.openxmlformats.org/officeDocument/2006/relationships/slide" Target="slides/slide140.xml"/><Relationship Id="rId150" Type="http://schemas.openxmlformats.org/officeDocument/2006/relationships/slide" Target="slides/slide141.xml"/><Relationship Id="rId151" Type="http://schemas.openxmlformats.org/officeDocument/2006/relationships/slide" Target="slides/slide142.xml"/><Relationship Id="rId152" Type="http://schemas.openxmlformats.org/officeDocument/2006/relationships/slide" Target="slides/slide143.xml"/><Relationship Id="rId153" Type="http://schemas.openxmlformats.org/officeDocument/2006/relationships/slide" Target="slides/slide144.xml"/><Relationship Id="rId154" Type="http://schemas.openxmlformats.org/officeDocument/2006/relationships/slide" Target="slides/slide145.xml"/><Relationship Id="rId155" Type="http://schemas.openxmlformats.org/officeDocument/2006/relationships/slide" Target="slides/slide146.xml"/><Relationship Id="rId156" Type="http://schemas.openxmlformats.org/officeDocument/2006/relationships/slide" Target="slides/slide147.xml"/><Relationship Id="rId157" Type="http://schemas.openxmlformats.org/officeDocument/2006/relationships/slide" Target="slides/slide148.xml"/><Relationship Id="rId1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B71-575F-4F0A-B4B6-3E8C7811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5665-102A-42AF-AD12-8F30BC71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3C9-2E9E-4F6B-8285-A8F07AC6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2A5C-CA01-43A3-8B16-0089EFE3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8539-6DD2-4EA3-A074-7B03CD50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3501-C8C6-43A5-B3E5-731712F6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37CD-A3E3-46AA-B278-5AA43447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A57E-82D7-4715-9299-DFE0419B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8F6B-8DFA-483A-86E1-4E43DDED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9D7E-BD17-4BC1-BE28-3AB7F088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9262-723C-4016-82E3-9C36D7B8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3FB2-B4A8-48D9-ADC5-F22ECFE3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8B13-A0CE-4963-8B68-5EFB55AC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50C7-D4C9-4208-812E-E614E575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EDDE-4970-47EA-B5AF-F4589BEC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F65A-BF43-4F9E-A981-4C088A7D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5FF2-37A9-456C-BC1E-A0697BF1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4E4217-E7A8-40D8-925E-6F94BD5A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91878-9FAE-41A2-B932-E198B162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06123-04AE-4E94-BDFD-6127195A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68D7B-5218-4DB2-95E1-1BC48788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1B4D7-83AF-47BC-93B3-F939FEE6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3FA8-B245-407E-A3E3-C69018C2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4F59D-776A-44C1-8344-6E9A6C99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C95BD-C7D9-4698-9E7C-9A6226FA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BDD134-BB66-4DA5-A0AA-206E87E8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869F3-49E1-46FE-99D8-B01E18F4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864F8-52D9-4014-99A4-BE81ED5B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368BB-CAE9-4470-89BF-830D595F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2A41F-AE8B-42E1-BADF-CE3E6C35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EA6A2E-B0A6-41AE-AA5F-AB3CC5E1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69F9DD-4174-4004-8139-C3AC1874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2EF8EC-20D5-4EDB-BDF6-55A0DBBE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ABC-D1CF-4352-8206-2649BD25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C3BAE0-D911-427C-95CB-A7C24549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DCDA99-C8B4-44B7-B76C-884EC47E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E46E3A-7AB1-4B22-B662-3BF3C6C7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82E2C7-01C5-4336-840E-B7433F67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6965F7-7EBA-4AB5-8506-F10F35B7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5D73BE-355A-4C19-8DD8-E6FE1D9E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E653BD-1D7F-497A-A739-2EBB13E8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E9D017-5DA2-49AD-820F-238305DD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2589FD-3224-404D-976A-A7D88522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8E94F-1CAE-4AEB-8D84-2E785726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67C-8F6B-4FA5-8787-E23B5ED7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33FC21-FB88-4710-8839-D07222A5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A0C228-BAB6-4EB8-8B16-25B7C96B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571A6B-F8E1-45B8-B6A5-09815433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60AECA-8DBF-4E5E-8B92-DF0261A4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A7CD57-F634-441B-A80F-68F8A3F5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84520-FCA0-44BA-AA69-D8F2BF78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74F3BA-EB32-40B8-A7CB-C1B8E187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358DBF-5138-492C-B611-AC1840F5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F26854-2028-4D72-BCC3-082FD742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167B48-B291-455C-A1B8-77C93C0A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54AE-F627-4BE5-9901-A8307FF2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BB08A-7CA9-4A06-8A5C-1629D95C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4BDD4-00CD-497A-BF84-28FE365C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A022E-3ED1-4329-AE64-6DC4718F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62D15-CF47-438F-9CA0-FCBB7116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709DA-4207-4DFF-BE30-4CBFBAFA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FE524-EC74-45D6-BD9F-EB31E1E7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6AB5F-132C-45E3-9CF0-F59DE758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E81D8-1E4D-4485-875B-FE5A7EA6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75165-42A8-4315-84F9-8974029A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ABC44-8E2E-406C-9302-DF61FFD2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DE8-9F83-49D7-8ACB-114D90D4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C25AC-14C3-4469-996E-DCE6DA85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E8EE5-DAFF-4269-9611-487D6107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437B6-8739-4A05-A7E3-A7C68B05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B0C11A-F055-4E10-8052-C182DC35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50709A-63BE-41C8-99FA-CDD0239F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868267-CD5F-46BB-893C-0D001F84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26950F-766F-4028-8229-9B5218CC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9262A3-0F91-45A0-BD5B-F4BE94F4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A5B093-CCA1-4F4C-A6F1-D0A37950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75C7C2-5555-4BE1-84FC-A70C1AA6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400-3E3C-47D3-BA4E-E7E14374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F8B70F-C18D-45F1-8455-BB214181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D8D792-51C6-4DCF-AB5F-4D17D0FF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E37400-F4C2-42F3-98CA-83BC6CAD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FC9952-885E-48BB-A8A8-95118186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D435BC-76BA-4CD7-8F0D-65D9F1C3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E28A7-1BB1-475C-A691-627D120C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187E1-E62D-4CC3-8315-7A287589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D4475-7A44-465C-AE3C-EC61C76F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AAD45-A26D-4C29-9E15-A84415A5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7AAE6-8810-488B-8AB5-06475F44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2259-74E7-4DF5-A6E0-5D114CEE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514ED-3E65-456D-A091-92BD5664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75062-89A3-4302-9279-2EEE07A6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6BE9E-ECBF-4D38-BF41-7784FE6F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1D4D3-154E-4577-8436-ACC19142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4DE59-1FD1-49C8-85DE-1EAA654A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31DF5-7D33-4906-8476-DE431EFE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1DCF4-5C04-456B-94D2-F41DC07C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984C-2EE9-4F30-9E0F-0853EB0FC69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6454-E253-439C-A064-8ED60ECF870D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16ED-3183-4E23-B51D-19A758F877B1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78B4-3F58-4E46-A0D4-0749366C92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260B-E78B-4027-AE19-287092973E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08CE-A169-411C-875D-91BF37C9E8BD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6B66-4AA1-4232-814D-7BE2F11D347D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82B5-3B71-4431-BCB3-9E559612B8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6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6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full-screen-stopwatch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Class%20Tools/Just%20Like%20Josh%20GIbson.htm" TargetMode="External"/><Relationship Id="rId2" Type="http://schemas.openxmlformats.org/officeDocument/2006/relationships/hyperlink" Target="http://www.scottsboro.org/~flewis/SF%20Reading%20Street/spellmaster/Firefighter!/jigword2.html" TargetMode="External"/><Relationship Id="rId3" Type="http://schemas.openxmlformats.org/officeDocument/2006/relationships/hyperlink" Target="http://www.scottsboro.org/~flewis/SF%20Reading%20Street/spellmaster/Just%20Like%20Josh%20Gibson/matchword2.html" TargetMode="External"/><Relationship Id="rId4" Type="http://schemas.openxmlformats.org/officeDocument/2006/relationships/hyperlink" Target="http://www.scottsboro.org/~flewis/SF%20Reading%20Street/spellmaster/Just%20Like%20Josh%20Gibson/speedword2.html" TargetMode="External"/><Relationship Id="rId5" Type="http://schemas.openxmlformats.org/officeDocument/2006/relationships/hyperlink" Target="http://www.scottsboro.org/~flewis/SF%20Reading%20Street/spellmaster/Just%20Like%20Josh%20Gibson/wordsearch2.html" TargetMode="External"/><Relationship Id="rId6" Type="http://schemas.openxmlformats.org/officeDocument/2006/relationships/hyperlink" Target="http://www.scottsboro.org/~flewis/SF%20Reading%20Street/spellmaster/Just%20Like%20Josh%20Gibson/wordweb.html" TargetMode="External"/><Relationship Id="rId7" Type="http://schemas.openxmlformats.org/officeDocument/2006/relationships/hyperlink" Target="http://www.spellingcity.com/index.php?option=com_spellcity&amp;task=viewList&amp;listId=825689" TargetMode="External"/><Relationship Id="rId8" Type="http://schemas.openxmlformats.org/officeDocument/2006/relationships/hyperlink" Target="http://www.spellingcity.com/index.php?option=com_spellcity&amp;task=viewList&amp;listId=825686" TargetMode="External"/><Relationship Id="rId9" Type="http://schemas.openxmlformats.org/officeDocument/2006/relationships/hyperlink" Target="http://www.spellingcity.com/index.php?option=com_spellcity&amp;task=viewList&amp;listId=825686" TargetMode="External"/><Relationship Id="rId10" Type="http://schemas.openxmlformats.org/officeDocument/2006/relationships/hyperlink" Target="http://www.scottsboro.org/~flewis/SF%20Reading%20Street/spellmaster/Just%20Like%20Josh%20Gibson%20Spelling%20Words/speedword2.html" TargetMode="External"/><Relationship Id="rId11" Type="http://schemas.openxmlformats.org/officeDocument/2006/relationships/hyperlink" Target="http://www.scottsboro.org/~flewis/SF%20Reading%20Street/spellmaster/Just%20Like%20Josh%20Gibson%20Spelling%20Words/wordweb.html" TargetMode="External"/><Relationship Id="rId12" Type="http://schemas.openxmlformats.org/officeDocument/2006/relationships/hyperlink" Target="http://www.quia.com/pop/208349.html" TargetMode="External"/><Relationship Id="rId13" Type="http://schemas.openxmlformats.org/officeDocument/2006/relationships/hyperlink" Target="http://www.spellingcity.com/index.php?option=com_spellcity&amp;Itemid=122&amp;task=viewList&amp;listId=354283" TargetMode="External"/><Relationship Id="rId14" Type="http://schemas.openxmlformats.org/officeDocument/2006/relationships/hyperlink" Target="http://www.spellingcity.com/index.php?option=com_spellcity&amp;task=viewList&amp;listId=825691" TargetMode="External"/><Relationship Id="rId15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8.xml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hyperlink" Target="http://images.google.com/imgres?imgurl=http://williams.prestosports.com/images/sball/Field72.jpg&amp;imgrefurl=http://williams.prestosports.com/sports/sball/index&amp;usg=__3Gb43MXobk6TEs8e2oob1Brkq1I=&amp;h=324&amp;w=432&amp;sz=148&amp;hl=EN&amp;start=2&amp;tbnid=YfmlvXG-77dbTM:&amp;tbnh=95&amp;tbnw=126&amp;prev=/images?q=field&amp;gbv=2&amp;hl=EN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google.com/imgres?imgurl=http://www.atpm.com/12.02/readers/images/dominican-republic-field.jpg&amp;imgrefurl=http://www.atpm.com/12.02/readers/dominican-republic-field.shtml&amp;usg=__gUtBltHPQytciE6OLqXlOYu0fB0=&amp;h=1120&amp;w=1680&amp;sz=782&amp;hl=EN&amp;start=3&amp;tbnid=_22mkCkaIR5Q-M:&amp;tbnh=100&amp;tbnw=150&amp;prev=/images?q=field&amp;gbv=2&amp;hl=EN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images.google.com/imgres?imgurl=http://graphics.fansonly.com/photos/schools/lewi/galleries/BrennanField/g-brennan_field11-lg.jpg&amp;imgrefurl=http://lewisflyers.cstv.com/facilities/lewi-facilities.html&amp;usg=__VauMmGqkXSr_UAVJySRUmelSJOE=&amp;h=300&amp;w=400&amp;sz=23&amp;hl=EN&amp;start=7&amp;tbnid=j02INKEDLMmLsM:&amp;tbnh=93&amp;tbnw=124&amp;prev=/images?q=field&amp;gbv=2&amp;hl=EN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images.google.com/imgres?imgurl=http://chicago.cubs.mlb.com/chc/images/ballpark/581x300_wrigley_field.jpg&amp;imgrefurl=http://chicago.cubs.mlb.com/chc/ballpark/rooftops.jsp&amp;usg=__5mq4oGM1zO4oMGE7KaWm2_kONUE=&amp;h=300&amp;w=581&amp;sz=29&amp;hl=EN&amp;start=9&amp;tbnid=pgPAGlGj36_pFM:&amp;tbnh=69&amp;tbnw=134&amp;prev=/images?q=field&amp;gbv=2&amp;hl=EN" TargetMode="External"/><Relationship Id="rId9" Type="http://schemas.openxmlformats.org/officeDocument/2006/relationships/image" Target="../media/image10.jpeg"/><Relationship Id="rId10" Type="http://schemas.openxmlformats.org/officeDocument/2006/relationships/hyperlink" Target="http://images.google.com/imgres?imgurl=http://www.anl.gov/Media_Center/News/2007/photo/071207_field-hirez.jpg&amp;imgrefurl=http://www.anl.gov/Media_Center/News/2007/BIO071207.html&amp;usg=__E-brQVTb2oy5qAx9WWOFqPdBnyc=&amp;h=1089&amp;w=1612&amp;sz=1384&amp;hl=EN&amp;start=25&amp;tbnid=sSe8dkzngRHBpM:&amp;tbnh=101&amp;tbnw=150&amp;prev=/images?q=field&amp;gbv=2&amp;ndsp=20&amp;hl=EN&amp;sa=N&amp;start=20" TargetMode="External"/><Relationship Id="rId11" Type="http://schemas.openxmlformats.org/officeDocument/2006/relationships/image" Target="../media/image11.jpeg"/><Relationship Id="rId12" Type="http://schemas.openxmlformats.org/officeDocument/2006/relationships/hyperlink" Target="http://images.google.com/imgres?imgurl=http://livingbeing.com/2%2520HORSES%2520IN%2520FIELD-(c)%2520Paul%2520Smyres.JPG&amp;imgrefurl=http://livingbeing.com/tableofcontents.htm&amp;usg=__DZbPn9ZlxXmkc43I8ppiXNvlH48=&amp;h=960&amp;w=1440&amp;sz=243&amp;hl=EN&amp;start=44&amp;tbnid=laKwO9B6vAFI4M:&amp;tbnh=100&amp;tbnw=150&amp;prev=/images?q=field&amp;gbv=2&amp;ndsp=20&amp;hl=EN&amp;sa=N&amp;start=40" TargetMode="External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hyperlink" Target="http://images.google.com/imgres?imgurl=http://69.90.174.253/photos/display_pic_with_logo/4262/4262,1147049604,1.jpg&amp;imgrefurl=http://www.shutterstock.com/pic-1288067-baseball-home-plate-red-clay.html&amp;usg=__mpen-t5XBCAAXdHu9etLvjmPJJQ=&amp;h=321&amp;w=450&amp;sz=80&amp;hl=EN&amp;start=6&amp;tbnid=N2mJxGYwebugJM:&amp;tbnh=91&amp;tbnw=127&amp;prev=/images?q=baseball+homes+plate&amp;gbv=2&amp;hl=EN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ages.google.com/imgres?imgurl=http://www.acclaimimages.com/_gallery/_images_n300/0037-0803-2914-4135_baseball_and_home_plate.jpg&amp;imgrefurl=http://www.acclaimimages.com/_gallery/_pages/0037-0803-2914-4135.html&amp;usg=__Ld3xVs9Smg9xbUCFhdadKyNtIpA=&amp;h=247&amp;w=300&amp;sz=31&amp;hl=EN&amp;start=12&amp;tbnid=0pM9wp2QN3BEsM:&amp;tbnh=96&amp;tbnw=116&amp;prev=/images?q=baseball+homes+plate&amp;gbv=2&amp;hl=EN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images.google.com/imgres?imgurl=http://wwwdelivery.superstock.com/WI/223/1626/PreviewComp/SuperStock_1626-2134.jpg&amp;imgrefurl=http://www.superstock.com/stock-photos-images/1626-2134&amp;usg=__IMLfVW8DivEFVKgDpEMDAuaT9LY=&amp;h=346&amp;w=350&amp;sz=73&amp;hl=EN&amp;start=20&amp;tbnid=5T7kpcqQDATGDM:&amp;tbnh=119&amp;tbnw=120&amp;prev=/images?q=baseball+homes+plate&amp;gbv=2&amp;hl=EN" TargetMode="External"/><Relationship Id="rId7" Type="http://schemas.openxmlformats.org/officeDocument/2006/relationships/image" Target="../media/image15.jpeg"/><Relationship Id="rId8" Type="http://schemas.openxmlformats.org/officeDocument/2006/relationships/hyperlink" Target="http://images.google.com/imgres?imgurl=http://www.miamibeach411.com/ee/images/uploads/home-plate-seats.jpg&amp;imgrefurl=http://www.miamibeach411.com/news/index.php?/news/comments/marlins-home-plate/&amp;usg=__Tmi2uc9M8bQNM2CRnw1jMjVjeIs=&amp;h=322&amp;w=385&amp;sz=61&amp;hl=EN&amp;start=31&amp;tbnid=BmfJPUdrGBmRKM:&amp;tbnh=103&amp;tbnw=123&amp;prev=/images?q=baseball+homes+plate&amp;gbv=2&amp;ndsp=20&amp;hl=EN&amp;sa=N&amp;start=20" TargetMode="External"/><Relationship Id="rId9" Type="http://schemas.openxmlformats.org/officeDocument/2006/relationships/image" Target="../media/image16.jpeg"/><Relationship Id="rId10" Type="http://schemas.openxmlformats.org/officeDocument/2006/relationships/hyperlink" Target="http://images.google.com/imgres?imgurl=http://www.esubulletin.com/media/images/WEB_Baseball_kellen_.jpg&amp;imgrefurl=http://www.esubulletin.com/articles/sports/2008/04/10/baseball-sweeps-fhsu-extends-streak-25&amp;usg=__qOHEQ2Evi19CL0pit3wErp5AXTU=&amp;h=420&amp;w=800&amp;sz=84&amp;hl=EN&amp;start=101&amp;tbnid=mLkv58psjGnwWM:&amp;tbnh=75&amp;tbnw=143&amp;prev=/images?q=baseball+homes+plate&amp;gbv=2&amp;ndsp=20&amp;hl=EN&amp;sa=N&amp;start=100" TargetMode="External"/><Relationship Id="rId11" Type="http://schemas.openxmlformats.org/officeDocument/2006/relationships/image" Target="../media/image17.jpeg"/><Relationship Id="rId12" Type="http://schemas.openxmlformats.org/officeDocument/2006/relationships/hyperlink" Target="http://images.google.com/imgres?imgurl=http://www.digitalballparks.com/Southern/Baseball_Grounds_-_From_Behind_the_NetV2T.jpg&amp;imgrefurl=http://www.baseball-fever.com/showthread.php?t=69741&amp;usg=__cxa5e7f9x1H23oziCQWiuGNjtyY=&amp;h=575&amp;w=784&amp;sz=58&amp;hl=EN&amp;start=129&amp;tbnid=pfUu3ZOiDNgVUM:&amp;tbnh=105&amp;tbnw=143&amp;prev=/images?q=baseball+homes+plate&amp;gbv=2&amp;ndsp=20&amp;hl=EN&amp;sa=N&amp;start=120" TargetMode="External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hyperlink" Target="http://images.google.com/imgres?imgurl=http://www.topendsports.com/sport/baseball/images/baseball-diamond.gif&amp;imgrefurl=http://www.topendsports.com/sport/baseball/equipment.htm&amp;usg=__BFir4zPNVXf6JTJnV3-Ry5MyVfI=&amp;h=251&amp;w=252&amp;sz=5&amp;hl=EN&amp;start=2&amp;tbnid=KIJ5A4g_1DIMjM:&amp;tbnh=111&amp;tbnw=111&amp;prev=/images?q=baseball+bases&amp;gbv=2&amp;hl=EN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hyperlink" Target="http://images.google.com/imgres?imgurl=http://www.mightyeighth.org/cart2/images/index.jpg&amp;imgrefurl=http://www.mightyeighth.org/cart2/index.php?main_page=index&amp;cPath=67_79&amp;usg=__JeDhte6a2Q7fRUF85I3xq2WZEHI=&amp;h=400&amp;w=278&amp;sz=25&amp;hl=EN&amp;start=3&amp;tbnid=lkcHI3VvRjKjOM:&amp;tbnh=124&amp;tbnw=86&amp;prev=/images?q=forties&amp;gbv=2&amp;hl=EN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images.google.com/imgres?imgurl=http://www.doverbooks.co.uk/images/0486260000/0486269183.jpg&amp;imgrefurl=http://www.doverbooks.co.uk/pp/Costume/Everyday__Fashions_of_the_Forties.html&amp;usg=__Su0Oa9F7AXfPO3Hc6-2fdG7aa_Y=&amp;h=350&amp;w=263&amp;sz=35&amp;hl=EN&amp;start=17&amp;tbnid=QYPSyB1xlx8YJM:&amp;tbnh=120&amp;tbnw=90&amp;prev=/images?q=forties&amp;gbv=2&amp;hl=EN" TargetMode="External"/><Relationship Id="rId5" Type="http://schemas.openxmlformats.org/officeDocument/2006/relationships/image" Target="../media/image21.jpeg"/><Relationship Id="rId6" Type="http://schemas.openxmlformats.org/officeDocument/2006/relationships/hyperlink" Target="http://images.google.com/imgres?imgurl=http://www.caranddriving.com/features2/300/motoring%2520in%2520the%2520forties.jpg&amp;imgrefurl=http://www.caranddriving.com/features2/&amp;usg=__V8qK18DUC2nJbdFHcoBsg3VA0ZM=&amp;h=1067&amp;w=1600&amp;sz=192&amp;hl=EN&amp;start=24&amp;tbnid=JcoOWt051gohoM:&amp;tbnh=100&amp;tbnw=150&amp;prev=/images?q=forties&amp;gbv=2&amp;ndsp=20&amp;hl=EN&amp;sa=N&amp;start=20" TargetMode="External"/><Relationship Id="rId7" Type="http://schemas.openxmlformats.org/officeDocument/2006/relationships/image" Target="../media/image22.jpeg"/><Relationship Id="rId8" Type="http://schemas.openxmlformats.org/officeDocument/2006/relationships/hyperlink" Target="http://images.google.com/imgres?imgurl=http://www.tibpriors.org/images/00/forties_guys.jpg&amp;imgrefurl=http://www.tibpriors.org/priors_yearbook.htm&amp;usg=__FUGkcsiwXc0eXsDRllXHNG_WA3A=&amp;h=399&amp;w=517&amp;sz=58&amp;hl=EN&amp;start=65&amp;tbnid=sWzptf2jn4Q7_M:&amp;tbnh=101&amp;tbnw=131&amp;prev=/images?q=forties&amp;gbv=2&amp;ndsp=20&amp;hl=EN&amp;sa=N&amp;start=60" TargetMode="External"/><Relationship Id="rId9" Type="http://schemas.openxmlformats.org/officeDocument/2006/relationships/image" Target="../media/image23.jpeg"/><Relationship Id="rId10" Type="http://schemas.openxmlformats.org/officeDocument/2006/relationships/hyperlink" Target="http://images.google.com/imgres?imgurl=http://justabouthair.com/rockabilly-hairstyles-/forties-rockabilly-hairstyles.jpg&amp;imgrefurl=http://justabouthair.com/rockabilly-hairstyles/&amp;usg=__9iniRdo-4O2tgKs3RfPbtlJ7JPY=&amp;h=442&amp;w=347&amp;sz=32&amp;hl=EN&amp;start=93&amp;tbnid=QidiPI67TgThpM:&amp;tbnh=127&amp;tbnw=100&amp;prev=/images?q=forties&amp;gbv=2&amp;ndsp=20&amp;hl=EN&amp;sa=N&amp;start=80" TargetMode="External"/><Relationship Id="rId11" Type="http://schemas.openxmlformats.org/officeDocument/2006/relationships/image" Target="../media/image24.jpeg"/><Relationship Id="rId12" Type="http://schemas.openxmlformats.org/officeDocument/2006/relationships/hyperlink" Target="http://images.google.com/imgres?imgurl=http://www.gallimauphry.com/Decor/paint.jpg&amp;imgrefurl=http://www.gallimauphry.com/Decor/40s.html&amp;usg=__zRLtcc9m3acrba5uw8V1E0DHBAo=&amp;h=480&amp;w=558&amp;sz=42&amp;hl=EN&amp;start=117&amp;tbnid=3fm308DmMguZxM:&amp;tbnh=114&amp;tbnw=133&amp;prev=/images?q=forties&amp;gbv=2&amp;ndsp=20&amp;hl=EN&amp;sa=N&amp;start=100" TargetMode="External"/><Relationship Id="rId13" Type="http://schemas.openxmlformats.org/officeDocument/2006/relationships/image" Target="../media/image25.jpeg"/><Relationship Id="rId14" Type="http://schemas.openxmlformats.org/officeDocument/2006/relationships/hyperlink" Target="http://images.google.com/imgres?imgurl=http://bp0.blogger.com/_nC3pdAOSBog/SEv9GwhgQ9I/AAAAAAAABGg/k_gLzOsHm0c/s400/forties+photograph.jpg&amp;imgrefurl=http://www.thestylepa.com/2008/06/trends-forties-tresses.html&amp;usg=__SLk3vkBawt9Mn4QA0mokzrfAdBg=&amp;h=400&amp;w=320&amp;sz=17&amp;hl=EN&amp;start=18&amp;tbnid=05iiHDKvdmU0TM:&amp;tbnh=124&amp;tbnw=99&amp;prev=/images?q=forties&amp;gbv=2&amp;ndsp=20&amp;hl=EN&amp;sa=N" TargetMode="External"/><Relationship Id="rId15" Type="http://schemas.openxmlformats.org/officeDocument/2006/relationships/image" Target="../media/image26.jpeg"/><Relationship Id="rId1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46.xml"/><Relationship Id="rId3" Type="http://schemas.openxmlformats.org/officeDocument/2006/relationships/slide" Target="slide86.xml"/><Relationship Id="rId4" Type="http://schemas.openxmlformats.org/officeDocument/2006/relationships/slide" Target="slide113.xml"/><Relationship Id="rId5" Type="http://schemas.openxmlformats.org/officeDocument/2006/relationships/slide" Target="slide129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Why are sports important in our country?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000"/>
            </a:br>
            <a:r>
              <a:rPr b="1" lang="en-US" sz="2000" spc="-1" strike="noStrike">
                <a:solidFill>
                  <a:srgbClr val="b95b22"/>
                </a:solidFill>
                <a:latin typeface="Tw Cen MT"/>
              </a:rPr>
              <a:t>Click to listen to the story.</a:t>
            </a:r>
            <a:r>
              <a:rPr b="0" lang="en-US" sz="2000" spc="-1" strike="noStrike">
                <a:solidFill>
                  <a:srgbClr val="b95b22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85800" y="213372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2" name="Picture 32" descr="Just Like Josh Gibs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6880" y="3048120"/>
            <a:ext cx="2665440" cy="32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000"/>
            </a:br>
            <a:r>
              <a:rPr b="0" lang="en-US" sz="2500" spc="-1" strike="noStrike">
                <a:solidFill>
                  <a:srgbClr val="775f55"/>
                </a:solidFill>
                <a:latin typeface="Tw Cen MT"/>
              </a:rPr>
              <a:t>Monday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914400" y="2133720"/>
          <a:ext cx="7467480" cy="370044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will read about a girl who played baseball long </a:t>
                      </a:r>
                      <a:r>
                        <a:rPr b="1" lang="en-US" sz="32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ago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She liked running </a:t>
                      </a:r>
                      <a:r>
                        <a:rPr b="1" lang="en-US" sz="32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towar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irst base.  She enjoyed playing baseball.  Why are sports important in our country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ses, cheers, field, plate, sailed, threw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you ran to home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plate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 and were safe, how would you feel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a wind blew your papers and they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sailed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 away, what would you do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you wanted to play baseball, what could you use to make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bases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ses, cheers, field, plate, sailed, threw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you went to spend the day in a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field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, what might you do there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you heard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cheers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 coming from the park, what might you find when you went to see what was happening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If you </a:t>
            </a:r>
            <a:r>
              <a:rPr b="1" lang="en-US" sz="3700" spc="-1" strike="noStrike">
                <a:solidFill>
                  <a:srgbClr val="dd8047"/>
                </a:solidFill>
                <a:latin typeface="Tw Cen MT"/>
              </a:rPr>
              <a:t>threw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 a ball, what might your dog do next?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 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              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s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             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Homopho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09120" y="18288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Some words sound the same but are spelled differently and have different meaning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threw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tossed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Nick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threw</a:t>
            </a: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 the ball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through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in one side and out the other side of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Edna ran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through</a:t>
            </a: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 the door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304560" y="-36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thruw the ball to left feild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I threw the ball to left field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the crowd cheerd for him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The crowd cheered for him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000"/>
            </a:br>
            <a:r>
              <a:rPr b="0" lang="en-US" sz="2500" spc="-1" strike="noStrike">
                <a:solidFill>
                  <a:srgbClr val="775f55"/>
                </a:solidFill>
                <a:latin typeface="Tw Cen MT"/>
              </a:rPr>
              <a:t>Monday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14400" y="2133720"/>
          <a:ext cx="7467480" cy="370044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will read about a girl who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playe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aseball long ago.  She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like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running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ward first base.  She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enjoye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playing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aseball.  Why are sports important in our country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ing capital letters helps readers identify </a:t>
            </a:r>
            <a:r>
              <a:rPr b="0" lang="en-US" sz="2900" spc="-1" strike="noStrike">
                <a:solidFill>
                  <a:srgbClr val="b95b22"/>
                </a:solidFill>
                <a:latin typeface="Tw Cen MT"/>
              </a:rPr>
              <a:t>proper noun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riting with capital letters lets readers know </a:t>
            </a:r>
            <a:r>
              <a:rPr b="0" lang="en-US" sz="2900" spc="-1" strike="noStrike">
                <a:solidFill>
                  <a:srgbClr val="b95b22"/>
                </a:solidFill>
                <a:latin typeface="Tw Cen MT"/>
              </a:rPr>
              <a:t>day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2900" spc="-1" strike="noStrike">
                <a:solidFill>
                  <a:srgbClr val="b95b22"/>
                </a:solidFill>
                <a:latin typeface="Tw Cen MT"/>
              </a:rPr>
              <a:t>month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2900" spc="-1" strike="noStrike">
                <a:solidFill>
                  <a:srgbClr val="b95b22"/>
                </a:solidFill>
                <a:latin typeface="Tw Cen MT"/>
              </a:rPr>
              <a:t>holiday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and </a:t>
            </a:r>
            <a:r>
              <a:rPr b="0" lang="en-US" sz="2900" spc="-1" strike="noStrike">
                <a:solidFill>
                  <a:srgbClr val="b95b22"/>
                </a:solidFill>
                <a:latin typeface="Tw Cen MT"/>
              </a:rPr>
              <a:t>titl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miss brady visited our school on the first friday in ma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b95b22"/>
                </a:solidFill>
                <a:latin typeface="Tw Cen MT"/>
              </a:rPr>
              <a:t>Miss  Brady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visited our school on the first </a:t>
            </a:r>
            <a:r>
              <a:rPr b="0" i="1" lang="en-US" sz="2900" spc="-1" strike="noStrike">
                <a:solidFill>
                  <a:srgbClr val="b95b22"/>
                </a:solidFill>
                <a:latin typeface="Tw Cen MT"/>
              </a:rPr>
              <a:t>Friday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 in </a:t>
            </a:r>
            <a:r>
              <a:rPr b="0" i="1" lang="en-US" sz="2900" spc="-1" strike="noStrike">
                <a:solidFill>
                  <a:srgbClr val="b95b22"/>
                </a:solidFill>
                <a:latin typeface="Tw Cen MT"/>
              </a:rPr>
              <a:t>May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Wrap Up Your Day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are and Contr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ad with Accuracy and Appropriate P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t</a:t>
            </a:r>
            <a:r>
              <a:rPr b="0" lang="ja-JP" sz="29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 Talk About 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morrow we will read about how baseball bega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Wednesday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a baseball ga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played or attended.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hursday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457200" y="2286000"/>
          <a:ext cx="8381880" cy="370044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to find out how baseball began. Baseball gives us an opportunity to compete and participate in recreation. What else do team sports teach u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hursday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457200" y="2286000"/>
          <a:ext cx="8381880" cy="370044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to find out how baseball began. Baseball gives us an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opportunity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compet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participat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recreation. What else do team sports teach u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oday we will learn abou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ords in Contex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rac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pital Lett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eak to Your Audie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971800" y="175248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l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lle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n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gu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s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Yankee Doodle Shortshop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ntence Rea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 guess you saw the pretty whal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Did you see them laugh in math and science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e watch those dolphins and wish they were pet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ntence Rea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hat photo of a bunch of shrimp won the contest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he garden patch near the village has enough flower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My shoe is rough, and my foot starts to itch when I wear it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oday we will learn abou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Amazing Wo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ntrac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mpare &amp; Contr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Visualiz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Using Capital Lett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 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              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s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             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5" descr="Student Pages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5" descr="Student Pages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75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we shou</a:t>
            </a:r>
            <a:r>
              <a:rPr b="1" lang="ja-JP" sz="4800" spc="-1" strike="noStrike">
                <a:solidFill>
                  <a:srgbClr val="ffffff"/>
                </a:solidFill>
                <a:latin typeface="Tw Cen MT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ldve wun the game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We should</a:t>
            </a:r>
            <a:r>
              <a:rPr b="1" lang="ja-JP" sz="48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ve won the game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we wouldv</a:t>
            </a:r>
            <a:r>
              <a:rPr b="1" lang="ja-JP" sz="4800" spc="-1" strike="noStrike">
                <a:solidFill>
                  <a:srgbClr val="ffffff"/>
                </a:solidFill>
                <a:latin typeface="Tw Cen MT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e if w</a:t>
            </a:r>
            <a:r>
              <a:rPr b="1" lang="ja-JP" sz="4800" spc="-1" strike="noStrike">
                <a:solidFill>
                  <a:srgbClr val="ffffff"/>
                </a:solidFill>
                <a:latin typeface="Tw Cen MT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ed scored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We would</a:t>
            </a:r>
            <a:r>
              <a:rPr b="1" lang="ja-JP" sz="48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ve if we</a:t>
            </a:r>
            <a:r>
              <a:rPr b="1" lang="ja-JP" sz="48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d scored!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ramma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How do names of days, months, and holidays begin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How do proper nouns and titles of people begin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hich of these words need a capital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ramma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066680" y="1599840"/>
            <a:ext cx="3276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mr. glennon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Mr. Glennon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memorial da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Memorial Da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omorrow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oda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pril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April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yesterda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dr. b. rog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dd8047"/>
                </a:solidFill>
                <a:latin typeface="Tw Cen MT"/>
              </a:rPr>
              <a:t>Dr. B. Rog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ital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dd8047"/>
                </a:solidFill>
                <a:latin typeface="Tw Cen MT"/>
              </a:rPr>
              <a:t>Ital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thanksgiving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dd8047"/>
                </a:solidFill>
                <a:latin typeface="Tw Cen MT"/>
              </a:rPr>
              <a:t>Thanksgiving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peaking and Listen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685800" y="1905120"/>
          <a:ext cx="7772400" cy="42465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9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ak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ers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Think about the audie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Decide whether to use formal or informal languag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Sit  quietl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Face the speak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Listen to what the speaker say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4b6d2"/>
                          </a:solidFill>
                          <a:latin typeface="Arial"/>
                        </a:rPr>
                        <a:t>Watch for nonverbal cues, such as hand gestures and head movement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Wrap Up Your Day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Make Connections:  Text to World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Let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s Talk About I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You have heard about how baseball began and why sports are important in our country.  Tomorrow we will hear about a baseball player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hursday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1447920" y="259092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becoming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etter athlete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Friday 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762120" y="2209680"/>
          <a:ext cx="7619760" cy="3700440"/>
        </p:xfrm>
        <a:graphic>
          <a:graphicData uri="http://schemas.openxmlformats.org/drawingml/2006/table">
            <a:tbl>
              <a:tblPr/>
              <a:tblGrid>
                <a:gridCol w="761976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read about sports.  Would you like to be an athlete? Athletes give an extra effort in every challenge they face. Why are sports important in our country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Friday 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762120" y="2209680"/>
          <a:ext cx="7619760" cy="3700440"/>
        </p:xfrm>
        <a:graphic>
          <a:graphicData uri="http://schemas.openxmlformats.org/drawingml/2006/table">
            <a:tbl>
              <a:tblPr/>
              <a:tblGrid>
                <a:gridCol w="761976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read about sports.  Would you like to be an </a:t>
                      </a:r>
                      <a:r>
                        <a:rPr b="1" i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thlet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Athletes give an extra </a:t>
                      </a:r>
                      <a:r>
                        <a:rPr b="1" i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effort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every </a:t>
                      </a:r>
                      <a:r>
                        <a:rPr b="1" i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challeng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y face. Why are sports important in our country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oday we will learn abou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Contraction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Vocabular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Capital Letter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People as Resourc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3200400" y="182880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l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lle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n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gu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s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 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              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s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             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09120" y="18288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Don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 you know if they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re here yet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 don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 see it—I should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ve found it by now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Don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 ask them if they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d been ther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 would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ve called you but you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d just left the hous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2666880" y="1600200"/>
          <a:ext cx="3810240" cy="518796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521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uisvile slug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___  over the green, grassy _____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saile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over the green, grassy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fiel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ryone shouted and gave three____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saile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over the green, grassy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fiel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ryone shouted and gave three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cheer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saile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over the green, grassy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fiel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ryone shouted and gave three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cheer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ran the ____ as fast as anyone has seen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athlet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440" y="17521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75f55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ath - lete</a:t>
            </a:r>
            <a:r>
              <a:rPr b="1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An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athlete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is somebody who uses skills and abilities to compete in sport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basketball players were skilled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athletes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fastest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athletes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competed in the rac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saile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over the green, grassy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fiel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ryone shouted and gave three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cheer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ran the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bas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s fast as anyone has seen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ust as the pitcher ____ the ball, I crossed home _____. </a:t>
            </a:r>
            <a:r>
              <a:rPr b="0" lang="ja-JP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fe!</a:t>
            </a:r>
            <a:r>
              <a:rPr b="0" lang="ja-JP" sz="2900" spc="-1" strike="noStrike">
                <a:solidFill>
                  <a:srgbClr val="000000"/>
                </a:solidFill>
                <a:latin typeface="Tw Cen MT"/>
              </a:rPr>
              <a:t>”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was the cal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ocabular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s, threw, sailed, plate, field, cheer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hit the ball and watched as it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saile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over the green, grassy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fiel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ryone shouted and gave three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cheer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ran the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bas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s fast as anyone has seen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ust as the pitcher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threw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e ball, I crossed home </a:t>
            </a: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plat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lang="ja-JP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fe!</a:t>
            </a:r>
            <a:r>
              <a:rPr b="0" lang="ja-JP" sz="2900" spc="-1" strike="noStrike">
                <a:solidFill>
                  <a:srgbClr val="000000"/>
                </a:solidFill>
                <a:latin typeface="Tw Cen MT"/>
              </a:rPr>
              <a:t>”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was the cal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228240" y="-609480"/>
            <a:ext cx="8915400" cy="769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w Cen MT"/>
              </a:rPr>
              <a:t>we chear as Joe runs the baises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8047"/>
                </a:solidFill>
                <a:latin typeface="Tw Cen MT"/>
              </a:rPr>
              <a:t>We cheer as Joe runs the bases.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w Cen MT"/>
              </a:rPr>
              <a:t>center feald is not home playte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8047"/>
                </a:solidFill>
                <a:latin typeface="Tw Cen MT"/>
              </a:rPr>
              <a:t>Center field is not home plate.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	</a:t>
            </a: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Research/Study Skills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People as Resourc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People are excellent resources when you are doing research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People have knowledge and expertise in many area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f you want information about something, you could ask an expert in that area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47560" y="114300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bddc3"/>
                </a:solidFill>
                <a:latin typeface="Tw Cen MT"/>
              </a:rPr>
              <a:t>WRAP UP YOUR WEEK!</a:t>
            </a:r>
            <a:endParaRPr b="0" lang="en-US" sz="5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1371240" y="3733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Let</a:t>
            </a:r>
            <a:r>
              <a:rPr b="1" lang="ja-JP" sz="3600" spc="-1" strike="noStrike">
                <a:solidFill>
                  <a:srgbClr val="ffffff"/>
                </a:solidFill>
                <a:latin typeface="Tw Cen MT"/>
              </a:rPr>
              <a:t>’</a:t>
            </a: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s Talk Abou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8047"/>
                </a:solidFill>
                <a:latin typeface="Tw Cen MT"/>
              </a:rPr>
              <a:t>Tradition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Friday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an athlet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meets a challenge.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Related Links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merican Girls Professional Baseball Leagu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 Gibson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 Gibson Foundation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ons Game 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the Contractions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APTPlus Videos  (password required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1447920" y="26668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Wonder: Baseball Bats, Bar Codes, and Quarries (24:46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ball Bat Factor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01:00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Verdana"/>
              </a:rPr>
              <a:t>We are now ready to 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Verdana"/>
              </a:rPr>
              <a:t>take our story tests.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90560" y="23270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  <a:ea typeface="Arial"/>
              </a:rPr>
              <a:t>Story tes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Classroom webpage,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Student page,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Taking Test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  <a:ea typeface="Arial"/>
              </a:rPr>
              <a:t>AR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Other Reading Quizz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  <a:ea typeface="Arial"/>
              </a:rPr>
              <a:t>Quiz # 904628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challen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6176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775f55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l - leng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llenge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is a test of someone</a:t>
            </a:r>
            <a:r>
              <a:rPr b="0" lang="ja-JP" sz="33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s abilities.  You can also challenge someone by daring him or her to do something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Pitching a perfect game was her biggest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llenge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other team will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llenge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us to a rematch if we win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effor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61760" y="16765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75f55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ef - for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Effort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is the physical and mental energy you use to do something or to achieve a goal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men used a lot of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effort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to move the refrigerator onto the truck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She put forth her best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effort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8" descr="An Athlete's Challenge"/>
          <p:cNvPicPr/>
          <p:nvPr/>
        </p:nvPicPr>
        <p:blipFill>
          <a:blip r:embed="rId1"/>
          <a:srcRect l="-2354" t="0" r="0" b="8200"/>
          <a:stretch/>
        </p:blipFill>
        <p:spPr>
          <a:xfrm>
            <a:off x="3581280" y="152280"/>
            <a:ext cx="5292720" cy="64008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289584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Listen to a song about being an athlete.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335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didn</a:t>
            </a:r>
            <a:r>
              <a:rPr b="1" lang="ja-JP" sz="33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hat do you know about reading this word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Didn</a:t>
            </a:r>
            <a:r>
              <a:rPr b="1" lang="ja-JP" sz="33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t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is a contraction of the words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did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and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not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n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apostroph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takes the place of the letter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o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in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not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oday we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ll learn about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contraction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made from other word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we</a:t>
            </a:r>
            <a:r>
              <a:rPr b="1" i="1" lang="ja-JP" sz="33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r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his word is a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contraction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, a short way of saying and writing two word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n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apostroph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takes the place of letters that are left out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You can read this word because you know the two words that make this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contraction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04404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8047"/>
                </a:solidFill>
                <a:latin typeface="Verdana"/>
              </a:rPr>
              <a:t>Small</a:t>
            </a: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6600" spc="-1" strike="noStrike">
                <a:solidFill>
                  <a:srgbClr val="dd8047"/>
                </a:solidFill>
                <a:latin typeface="Verdana"/>
              </a:rPr>
              <a:t>Group</a:t>
            </a:r>
            <a:r>
              <a:rPr b="1" lang="en-US" sz="6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6600" spc="-1" strike="noStrike" u="sng">
                <a:solidFill>
                  <a:srgbClr val="f7b615"/>
                </a:solidFill>
                <a:uFillTx/>
                <a:latin typeface="Verdana"/>
                <a:hlinkClick r:id="rId1"/>
              </a:rPr>
              <a:t>Timer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we</a:t>
            </a:r>
            <a:r>
              <a:rPr b="1" i="1" lang="ja-JP" sz="3300" spc="-1" strike="noStrike">
                <a:solidFill>
                  <a:srgbClr val="775f55"/>
                </a:solidFill>
                <a:latin typeface="Tw Cen MT"/>
              </a:rPr>
              <a:t>’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re – we ar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apostroph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in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we</a:t>
            </a:r>
            <a:r>
              <a:rPr b="1" i="1" lang="ja-JP" sz="33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r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takes the place of the letter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a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in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ar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o read </a:t>
            </a:r>
            <a:r>
              <a:rPr b="1" i="1" lang="en-US" sz="3300" spc="-1" strike="noStrike">
                <a:solidFill>
                  <a:srgbClr val="b95b22"/>
                </a:solidFill>
                <a:latin typeface="Tw Cen MT"/>
              </a:rPr>
              <a:t>contraction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, first read the word before the apostrophe and then blend it with what comes after the apostroph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85800" y="1752120"/>
            <a:ext cx="5105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v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on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an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e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 ( 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 can mean </a:t>
            </a:r>
            <a:r>
              <a:rPr b="0" lang="en-US" sz="3200" spc="-1" strike="noStrike">
                <a:solidFill>
                  <a:srgbClr val="94b6d2"/>
                </a:solidFill>
                <a:latin typeface="Tw Cen MT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or </a:t>
            </a:r>
            <a:r>
              <a:rPr b="0" lang="en-US" sz="3200" spc="-1" strike="noStrike">
                <a:solidFill>
                  <a:srgbClr val="94b6d2"/>
                </a:solidFill>
                <a:latin typeface="Tw Cen MT"/>
              </a:rPr>
              <a:t>would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you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r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he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 ( 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 can mean </a:t>
            </a:r>
            <a:r>
              <a:rPr b="0" lang="en-US" sz="3200" spc="-1" strike="noStrike">
                <a:solidFill>
                  <a:srgbClr val="94b6d2"/>
                </a:solidFill>
                <a:latin typeface="Tw Cen MT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or </a:t>
            </a: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wo</a:t>
            </a:r>
            <a:r>
              <a:rPr b="0" lang="en-US" sz="3200" spc="-1" strike="noStrike">
                <a:solidFill>
                  <a:srgbClr val="94b6d2"/>
                </a:solidFill>
                <a:latin typeface="Tw Cen MT"/>
              </a:rPr>
              <a:t>u</a:t>
            </a: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ld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791320" y="1752120"/>
            <a:ext cx="2666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on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r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e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v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uld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v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Verdana"/>
              </a:rPr>
              <a:t>Review Ga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66320" y="15235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d8047"/>
                </a:solidFill>
                <a:latin typeface="Tw Cen MT"/>
                <a:ea typeface="Arial"/>
              </a:rPr>
              <a:t>Vocabulary &amp; Amazing Word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7"/>
              </a:rPr>
              <a:t>Spelling City: Amaz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8"/>
              </a:rPr>
              <a:t>Spelling City: Vocabulary</a:t>
            </a: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9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715000" y="167652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8047"/>
                </a:solidFill>
                <a:latin typeface="Tw Cen MT"/>
                <a:ea typeface="Arial"/>
              </a:rPr>
              <a:t>Spelling Word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0"/>
              </a:rPr>
              <a:t>Speedwo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1"/>
              </a:rPr>
              <a:t>Word We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2"/>
              </a:rPr>
              <a:t>Quia Gam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3"/>
              </a:rPr>
              <a:t>Spelling Ci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8047"/>
                </a:solidFill>
                <a:latin typeface="Tw Cen MT"/>
                <a:ea typeface="Arial"/>
              </a:rPr>
              <a:t>High Frequency Wor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4"/>
              </a:rPr>
              <a:t>Spelling Ci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2057400" y="1905120"/>
          <a:ext cx="4952880" cy="435924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3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2057400" y="1905120"/>
          <a:ext cx="4952880" cy="435924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3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447920" y="15238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e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l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houldn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on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an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v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r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02884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on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e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l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re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e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v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he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l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 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              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s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             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Compare and Contrast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Visualiz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09120" y="18288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Recall </a:t>
            </a:r>
            <a:r>
              <a:rPr b="0" i="1" lang="en-US" sz="3300" spc="-1" strike="noStrike" u="sng">
                <a:solidFill>
                  <a:srgbClr val="000000"/>
                </a:solidFill>
                <a:uFillTx/>
                <a:latin typeface="Tw Cen MT"/>
              </a:rPr>
              <a:t>Horace and Morris but mostly Dolor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Let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s compare the boys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club and the girls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club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How would the story have been different if the boys had not decided to make their own club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Compare and Contrast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Visualiz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240" y="16765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Good readers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compar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and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contrast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what they read with what they already know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Sometimes there are helpful clue words that help us compare and contrast, such as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lik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however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, and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but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 Sometimes there aren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 any clue word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Good readers picture, or </a:t>
            </a:r>
            <a:r>
              <a:rPr b="1" i="1" lang="en-US" sz="3300" spc="-1" strike="noStrike">
                <a:solidFill>
                  <a:srgbClr val="dd8047"/>
                </a:solidFill>
                <a:latin typeface="Tw Cen MT"/>
              </a:rPr>
              <a:t>visualiz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, what is happening in a story in their minds.  Then we compare what we are reading with what we already know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7236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ages 296-297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0" name="Picture 5" descr="Student Pages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380520" y="-1524240"/>
            <a:ext cx="8458200" cy="883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i want to be an atlete</a:t>
            </a:r>
            <a:r>
              <a:rPr b="0" lang="en-US" sz="4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I want to be an athlete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they</a:t>
            </a:r>
            <a:r>
              <a:rPr b="1" lang="ja-JP" sz="4800" spc="-1" strike="noStrike">
                <a:solidFill>
                  <a:srgbClr val="ffffff"/>
                </a:solidFill>
                <a:latin typeface="Tw Cen MT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re watching ken play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They</a:t>
            </a:r>
            <a:r>
              <a:rPr b="1" lang="ja-JP" sz="48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re watching Ken play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8047"/>
                </a:solidFill>
                <a:latin typeface="Tw Cen MT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124080" y="1752480"/>
          <a:ext cx="3262320" cy="4675320"/>
        </p:xfrm>
        <a:graphic>
          <a:graphicData uri="http://schemas.openxmlformats.org/drawingml/2006/table">
            <a:tbl>
              <a:tblPr/>
              <a:tblGrid>
                <a:gridCol w="3262320"/>
              </a:tblGrid>
              <a:tr h="470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maz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l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lle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n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gu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s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Using 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Sentenc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should always begin with a capital letter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Day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of the week,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month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of the year, and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holiday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begin with capital letter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The first day of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January</a:t>
            </a: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 is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New Year</a:t>
            </a:r>
            <a:r>
              <a:rPr b="1" i="1" lang="ja-JP" sz="3300" spc="-1" strike="noStrike">
                <a:solidFill>
                  <a:srgbClr val="775f55"/>
                </a:solidFill>
                <a:latin typeface="Tw Cen MT"/>
              </a:rPr>
              <a:t>’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s Day</a:t>
            </a: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Titl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for people begin with capital letter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Every year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Mr</a:t>
            </a:r>
            <a:r>
              <a:rPr b="0" i="1" lang="en-US" sz="3300" spc="-1" strike="noStrike">
                <a:solidFill>
                  <a:srgbClr val="000000"/>
                </a:solidFill>
                <a:latin typeface="Tw Cen MT"/>
              </a:rPr>
              <a:t>. Lewis has a big party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Using 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28240" y="16765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he last monday in may is memorial day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8047"/>
                </a:solidFill>
                <a:latin typeface="Tw Cen MT"/>
              </a:rPr>
              <a:t>The last Monday in May is Memorial Day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very year coach Scalia and mrs. Kurtz march in the parade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8047"/>
                </a:solidFill>
                <a:latin typeface="Tw Cen MT"/>
              </a:rPr>
              <a:t>Every year Coach Scalia and Mrs. Kurtz march in the parade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Using 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28240" y="17521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his year the fourth of july is on a friday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8047"/>
                </a:solidFill>
                <a:latin typeface="Tw Cen MT"/>
              </a:rPr>
              <a:t>This year the Fourth of July is on a Friday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e always go to the barbecue at mr. Garcia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 house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8047"/>
                </a:solidFill>
                <a:latin typeface="Tw Cen MT"/>
              </a:rPr>
              <a:t>We always go to the barbecue at Mr. Garcia</a:t>
            </a:r>
            <a:r>
              <a:rPr b="0" i="1" lang="ja-JP" sz="40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0" i="1" lang="en-US" sz="4000" spc="-1" strike="noStrike">
                <a:solidFill>
                  <a:srgbClr val="dd8047"/>
                </a:solidFill>
                <a:latin typeface="Tw Cen MT"/>
              </a:rPr>
              <a:t>s house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Using 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335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hat holiday is on the fourth thursday in november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dd8047"/>
                </a:solidFill>
                <a:latin typeface="Tw Cen MT"/>
              </a:rPr>
              <a:t>What holiday is on the fourth Thursday in November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 saw dr. Martin and ms. Chang at the thanksgiving party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dd8047"/>
                </a:solidFill>
                <a:latin typeface="Tw Cen MT"/>
              </a:rPr>
              <a:t>I saw Dr. Martin and Ms. Chang at the Thanksgiving party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Wrap Up Your Day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ntractions </a:t>
            </a:r>
            <a:r>
              <a:rPr b="1" i="1" lang="ja-JP" sz="29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i="1" lang="en-US" sz="2900" spc="-1" strike="noStrike">
                <a:solidFill>
                  <a:srgbClr val="dd8047"/>
                </a:solidFill>
                <a:latin typeface="Tw Cen MT"/>
              </a:rPr>
              <a:t>re, </a:t>
            </a:r>
            <a:r>
              <a:rPr b="1" i="1" lang="ja-JP" sz="29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i="1" lang="en-US" sz="2900" spc="-1" strike="noStrike">
                <a:solidFill>
                  <a:srgbClr val="dd8047"/>
                </a:solidFill>
                <a:latin typeface="Tw Cen MT"/>
              </a:rPr>
              <a:t>ve, </a:t>
            </a:r>
            <a:r>
              <a:rPr b="1" i="1" lang="ja-JP" sz="29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i="1" lang="en-US" sz="2900" spc="-1" strike="noStrike">
                <a:solidFill>
                  <a:srgbClr val="dd8047"/>
                </a:solidFill>
                <a:latin typeface="Tw Cen MT"/>
              </a:rPr>
              <a:t>d, don</a:t>
            </a:r>
            <a:r>
              <a:rPr b="1" i="1" lang="ja-JP" sz="29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i="1" lang="en-US" sz="2900" spc="-1" strike="noStrike">
                <a:solidFill>
                  <a:srgbClr val="dd8047"/>
                </a:solidFill>
                <a:latin typeface="Tw Cen MT"/>
              </a:rPr>
              <a:t>t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 and </a:t>
            </a:r>
            <a:r>
              <a:rPr b="1" i="1" lang="en-US" sz="2900" spc="-1" strike="noStrike">
                <a:solidFill>
                  <a:srgbClr val="dd8047"/>
                </a:solidFill>
                <a:latin typeface="Tw Cen MT"/>
              </a:rPr>
              <a:t>won</a:t>
            </a:r>
            <a:r>
              <a:rPr b="1" i="1" lang="ja-JP" sz="29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1" i="1" lang="en-US" sz="2900" spc="-1" strike="noStrike">
                <a:solidFill>
                  <a:srgbClr val="dd8047"/>
                </a:solidFill>
                <a:latin typeface="Tw Cen MT"/>
              </a:rPr>
              <a:t>t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mpare and Contr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Let</a:t>
            </a:r>
            <a:r>
              <a:rPr b="1" lang="ja-JP" sz="29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s Talk About 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omorrow we will read about a girl that liked to play basebal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800"/>
            </a:b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Monday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371600" y="2057400"/>
          <a:ext cx="6095880" cy="37497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5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 paragraph about a time you played or watched baseball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uesday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609480" y="2133720"/>
          <a:ext cx="8077320" cy="3700440"/>
        </p:xfrm>
        <a:graphic>
          <a:graphicData uri="http://schemas.openxmlformats.org/drawingml/2006/table">
            <a:tbl>
              <a:tblPr/>
              <a:tblGrid>
                <a:gridCol w="807732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about a girl who liked to play baseball. She wanted to compete with the boys. She played baseball for recreation. Do you know any girls who are good baseball player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uesday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609480" y="2133720"/>
          <a:ext cx="8077320" cy="3700440"/>
        </p:xfrm>
        <a:graphic>
          <a:graphicData uri="http://schemas.openxmlformats.org/drawingml/2006/table">
            <a:tbl>
              <a:tblPr/>
              <a:tblGrid>
                <a:gridCol w="807732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about a girl who liked to play baseball. She wanted to </a:t>
                      </a:r>
                      <a:r>
                        <a:rPr b="1" i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compet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ith the boys. She played baseball for </a:t>
                      </a:r>
                      <a:r>
                        <a:rPr b="1" i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recreation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Do you know any girls who are good baseball player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oday we will learn abou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09120" y="19051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Contractions </a:t>
            </a:r>
            <a:r>
              <a:rPr b="1" i="1" lang="ja-JP" sz="3300" spc="-1" strike="noStrike">
                <a:solidFill>
                  <a:srgbClr val="775f55"/>
                </a:solidFill>
                <a:latin typeface="Tw Cen MT"/>
              </a:rPr>
              <a:t>’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re, </a:t>
            </a:r>
            <a:r>
              <a:rPr b="1" i="1" lang="ja-JP" sz="3300" spc="-1" strike="noStrike">
                <a:solidFill>
                  <a:srgbClr val="775f55"/>
                </a:solidFill>
                <a:latin typeface="Tw Cen MT"/>
              </a:rPr>
              <a:t>’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ve, </a:t>
            </a:r>
            <a:r>
              <a:rPr b="1" i="1" lang="ja-JP" sz="3300" spc="-1" strike="noStrike">
                <a:solidFill>
                  <a:srgbClr val="775f55"/>
                </a:solidFill>
                <a:latin typeface="Tw Cen MT"/>
              </a:rPr>
              <a:t>’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d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Amazing Word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Vocabulary Word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Multiple-Meaning Word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Context Clu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Use Capital Letter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2743200" y="1600200"/>
          <a:ext cx="3809880" cy="518796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521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Vocabulary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uisvile slug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dain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6176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dain - t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Dainty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means delicate and pretty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dress had a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dainty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lace collar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You could eat the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dainty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cookies in one bit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disgui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805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dd8047"/>
                </a:solidFill>
                <a:latin typeface="Verdana"/>
                <a:ea typeface="Arial"/>
              </a:rPr>
              <a:t>dis – guis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2800" spc="-1" strike="noStrike">
                <a:solidFill>
                  <a:srgbClr val="dd8047"/>
                </a:solidFill>
                <a:latin typeface="Verdana"/>
                <a:ea typeface="Arial"/>
              </a:rPr>
              <a:t>disgui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can be clothes or make-up someone wears to change the way he or she looks so he or she won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t be recognized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hen you change your appearance so you won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t be recognized, you </a:t>
            </a:r>
            <a:r>
              <a:rPr b="1" lang="en-US" sz="2800" spc="-1" strike="noStrike">
                <a:solidFill>
                  <a:srgbClr val="dd8047"/>
                </a:solidFill>
                <a:latin typeface="Verdana"/>
                <a:ea typeface="Arial"/>
              </a:rPr>
              <a:t>disgui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yourself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The spy wore a </a:t>
            </a:r>
            <a:r>
              <a:rPr b="1" lang="en-US" sz="2800" spc="-1" strike="noStrike">
                <a:solidFill>
                  <a:srgbClr val="dd8047"/>
                </a:solidFill>
                <a:latin typeface="Verdana"/>
                <a:ea typeface="Arial"/>
              </a:rPr>
              <a:t>disgui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so she wouldn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t be recognized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He wore a wig and a beard to </a:t>
            </a:r>
            <a:r>
              <a:rPr b="1" lang="en-US" sz="2800" spc="-1" strike="noStrike">
                <a:solidFill>
                  <a:srgbClr val="dd8047"/>
                </a:solidFill>
                <a:latin typeface="Verdana"/>
                <a:ea typeface="Arial"/>
              </a:rPr>
              <a:t>disgui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himself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champ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76176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m – pi- on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mpion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is the winner of a game or competition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mpions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had ten wins and no losse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Our team practiced hard because we wanted to beat last year</a:t>
            </a:r>
            <a:r>
              <a:rPr b="0" lang="ja-JP" sz="33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s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champions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The Princesses </a:t>
            </a:r>
            <a:br>
              <a:rPr sz="5400"/>
            </a:b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 Have a Ball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I</a:t>
            </a:r>
            <a:r>
              <a:rPr b="0" lang="ja-JP" sz="33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v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You can read this word because you know how to read contraction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hat two words form 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I</a:t>
            </a:r>
            <a:r>
              <a:rPr b="0" lang="ja-JP" sz="33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dd8047"/>
                </a:solidFill>
                <a:latin typeface="Tw Cen MT"/>
              </a:rPr>
              <a:t>v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hen you come to a contraction, read the word before the apostrophe and then blend it with what follows the apostroph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599840" y="17524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he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hey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v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hey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on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on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hey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ll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800240" y="17524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hey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r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e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e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v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he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ll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he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ll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8" descr="Phonics Songs and Rhymes Chart 26"/>
          <p:cNvPicPr/>
          <p:nvPr/>
        </p:nvPicPr>
        <p:blipFill>
          <a:blip r:embed="rId1"/>
          <a:srcRect l="2268" t="1498" r="4557" b="11453"/>
          <a:stretch/>
        </p:blipFill>
        <p:spPr>
          <a:xfrm>
            <a:off x="4419720" y="152280"/>
            <a:ext cx="4495680" cy="63597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3200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isten for contractions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8128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v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he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e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v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e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r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on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on</a:t>
            </a:r>
            <a:r>
              <a:rPr b="0" lang="ja-JP" sz="4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95480" y="1828800"/>
          <a:ext cx="3581640" cy="4651200"/>
        </p:xfrm>
        <a:graphic>
          <a:graphicData uri="http://schemas.openxmlformats.org/drawingml/2006/table">
            <a:tbl>
              <a:tblPr/>
              <a:tblGrid>
                <a:gridCol w="3581640"/>
              </a:tblGrid>
              <a:tr h="467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High Frequency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t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ll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2057400" y="1905120"/>
          <a:ext cx="4952880" cy="411480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2057400" y="1905120"/>
          <a:ext cx="4952880" cy="435924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3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2057400" y="1905120"/>
          <a:ext cx="4952880" cy="435924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43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n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</a:t>
                      </a:r>
                      <a:r>
                        <a:rPr b="0" lang="ja-JP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 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              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s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             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838080" y="1981080"/>
          <a:ext cx="2590920" cy="358164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Glue Words</a:t>
                      </a:r>
                      <a:r>
                        <a:rPr b="1" lang="en-US" sz="32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3733920" y="1752480"/>
          <a:ext cx="4800600" cy="467532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Spelling 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 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               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s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             we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c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w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     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should</a:t>
                      </a:r>
                      <a:r>
                        <a:rPr b="1" lang="ja-JP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775f55"/>
                          </a:solidFill>
                          <a:latin typeface="Arial"/>
                        </a:rPr>
                        <a:t>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75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ra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091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d ask him to come, but I don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 think he will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You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re a good friend, and I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ve always said so!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e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ve seen that show before!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on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 you walk home with me today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Vocabula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field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a piece of land used for some special purpos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cheer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calls out or yells loudly to show that you like something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threw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sent something through the air by force of your arm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sailed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moved smoothly like a ship with sail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2" action="ppaction://hlinksldjump"/>
              </a:rPr>
              <a:t>(next slid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fiel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0" name="Picture 6" descr="Field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2133720"/>
            <a:ext cx="2647800" cy="1996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8" descr="dominican-republic-fiel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" y="213372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0" descr="g-brennan_field11-l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05320" y="259092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2" descr="581x300_wrigley_field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" y="4767120"/>
            <a:ext cx="2819520" cy="14526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4" descr="071207_field-hirez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657600" y="4495680"/>
            <a:ext cx="2133720" cy="14367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6" descr="2%2520HORSES%2520IN%2520FIELD-(c)%2520Paul%2520Smyre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867280" y="4495680"/>
            <a:ext cx="25718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plat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8" name="Picture 7" descr="4262,1147049604,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2133720"/>
            <a:ext cx="2657520" cy="19033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9" descr="0037-0803-2914-4135_baseball_and_home_plat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120" y="2209680"/>
            <a:ext cx="2514600" cy="20811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1" descr="SuperStock_1626-213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81280" y="2133720"/>
            <a:ext cx="1905120" cy="18889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3" descr="home-plate-seat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429000" y="4197240"/>
            <a:ext cx="2438280" cy="20415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5" descr="WEB_Baseball_kellen_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62120" y="4724280"/>
            <a:ext cx="2514600" cy="14763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7" descr="Baseball_Grounds_-_From_Behind_the_NetV2T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95880" y="4454640"/>
            <a:ext cx="235296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bas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6" name="Picture 7" descr="baseball-diamon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38280" y="190512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8"/>
          <p:cNvSpPr/>
          <p:nvPr/>
        </p:nvSpPr>
        <p:spPr>
          <a:xfrm>
            <a:off x="5717160" y="42670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dc3"/>
                </a:solidFill>
                <a:latin typeface="Arial"/>
              </a:rPr>
              <a:t>First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3432240" y="297180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dc3"/>
                </a:solidFill>
                <a:latin typeface="Arial"/>
              </a:rPr>
              <a:t>Second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1"/>
          <p:cNvSpPr/>
          <p:nvPr/>
        </p:nvSpPr>
        <p:spPr>
          <a:xfrm>
            <a:off x="1373400" y="41911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dc3"/>
                </a:solidFill>
                <a:latin typeface="Arial"/>
              </a:rPr>
              <a:t>Third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2"/>
          <p:cNvSpPr/>
          <p:nvPr/>
        </p:nvSpPr>
        <p:spPr>
          <a:xfrm>
            <a:off x="3583440" y="55627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dc3"/>
                </a:solidFill>
                <a:latin typeface="Arial"/>
              </a:rPr>
              <a:t>Hom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fort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3" name="Picture 7" descr="index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2133720"/>
            <a:ext cx="1744560" cy="25146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048626918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8480" y="213372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1" descr="motoring%2520in%2520the%2520fortie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5800" y="473724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3" descr="forties_guy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400800" y="4648320"/>
            <a:ext cx="2009880" cy="15494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5" descr="forties-rockabilly-hairstyle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352680" y="4724280"/>
            <a:ext cx="1192320" cy="15145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7" descr="paint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048120" y="2133720"/>
            <a:ext cx="2895480" cy="24811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9" descr="forties%2Bphotograph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800600" y="4724280"/>
            <a:ext cx="11858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Louisville slugg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2" name="Picture 7" descr="louisville-slugger-museum"/>
          <p:cNvPicPr/>
          <p:nvPr/>
        </p:nvPicPr>
        <p:blipFill>
          <a:blip r:embed="rId2"/>
          <a:stretch/>
        </p:blipFill>
        <p:spPr>
          <a:xfrm>
            <a:off x="762120" y="3886200"/>
            <a:ext cx="1738080" cy="23050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9" descr="207353-480-321"/>
          <p:cNvPicPr/>
          <p:nvPr/>
        </p:nvPicPr>
        <p:blipFill>
          <a:blip r:embed="rId3"/>
          <a:stretch/>
        </p:blipFill>
        <p:spPr>
          <a:xfrm>
            <a:off x="3657600" y="213372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1" descr="0-Blog_-_Billets_being_processed_540x361"/>
          <p:cNvPicPr/>
          <p:nvPr/>
        </p:nvPicPr>
        <p:blipFill>
          <a:blip r:embed="rId4"/>
          <a:stretch/>
        </p:blipFill>
        <p:spPr>
          <a:xfrm>
            <a:off x="685800" y="2133720"/>
            <a:ext cx="2514600" cy="16761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5" descr="610x"/>
          <p:cNvPicPr/>
          <p:nvPr/>
        </p:nvPicPr>
        <p:blipFill>
          <a:blip r:embed="rId5"/>
          <a:stretch/>
        </p:blipFill>
        <p:spPr>
          <a:xfrm>
            <a:off x="3124080" y="4343400"/>
            <a:ext cx="2362320" cy="19112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7" descr="img"/>
          <p:cNvPicPr/>
          <p:nvPr/>
        </p:nvPicPr>
        <p:blipFill>
          <a:blip r:embed="rId6"/>
          <a:stretch/>
        </p:blipFill>
        <p:spPr>
          <a:xfrm>
            <a:off x="7091280" y="2133720"/>
            <a:ext cx="1300320" cy="22096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9" descr="1187007554_134540096f"/>
          <p:cNvPicPr/>
          <p:nvPr/>
        </p:nvPicPr>
        <p:blipFill>
          <a:blip r:embed="rId7"/>
          <a:stretch/>
        </p:blipFill>
        <p:spPr>
          <a:xfrm>
            <a:off x="6095880" y="4452840"/>
            <a:ext cx="230508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Vocabula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plate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a hard rubber slab that a baseball player stands beside to ba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bas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places that are stations or goals in certain games, such as baseball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soar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to fly upward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forti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the years between 1940 and 1949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3300" spc="-1" strike="noStrike">
                <a:solidFill>
                  <a:srgbClr val="775f55"/>
                </a:solidFill>
                <a:latin typeface="Tw Cen MT"/>
              </a:rPr>
              <a:t>Louisville slugger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– a popular kind of baseball ba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gh-Frequency Wor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523520" y="213372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field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you</a:t>
            </a:r>
            <a:r>
              <a:rPr b="0" lang="ja-JP" sz="36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r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he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gon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threw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5105160" y="213372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sailed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gues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plat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earl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ase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onc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8047"/>
                </a:solidFill>
                <a:latin typeface="Tw Cen MT"/>
              </a:rPr>
              <a:t>Big Question:</a:t>
            </a: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Why are sports important in our country?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813040" y="3581280"/>
            <a:ext cx="63309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 action="ppaction://hlinksldjump"/>
              </a:rPr>
              <a:t>Mon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2" action="ppaction://hlinksldjump"/>
              </a:rPr>
              <a:t>Tues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3" action="ppaction://hlinksldjump"/>
              </a:rPr>
              <a:t>Wednes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4" action="ppaction://hlinksldjump"/>
              </a:rPr>
              <a:t>Thurs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5" action="ppaction://hlinksldjump"/>
              </a:rPr>
              <a:t>Fri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Student Pages"/>
          <p:cNvPicPr/>
          <p:nvPr/>
        </p:nvPicPr>
        <p:blipFill>
          <a:blip r:embed="rId1"/>
          <a:stretch/>
        </p:blipFill>
        <p:spPr>
          <a:xfrm>
            <a:off x="0" y="40176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text Clu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052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Sometimes we can get the meaning from word parts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We may understand the base word and suffix (</a:t>
            </a:r>
            <a:r>
              <a:rPr b="0" i="1" lang="en-US" sz="3000" spc="-1" strike="noStrike">
                <a:solidFill>
                  <a:srgbClr val="dd8047"/>
                </a:solidFill>
                <a:latin typeface="Tw Cen MT"/>
              </a:rPr>
              <a:t>beautiful, full of beauty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) or the two shorter words in a compound word (</a:t>
            </a:r>
            <a:r>
              <a:rPr b="0" i="1" lang="en-US" sz="3000" spc="-1" strike="noStrike">
                <a:solidFill>
                  <a:srgbClr val="dd8047"/>
                </a:solidFill>
                <a:latin typeface="Tw Cen MT"/>
              </a:rPr>
              <a:t>wildcat, a cat that</a:t>
            </a:r>
            <a:r>
              <a:rPr b="0" i="1" lang="ja-JP" sz="3000" spc="-1" strike="noStrike">
                <a:solidFill>
                  <a:srgbClr val="dd8047"/>
                </a:solidFill>
                <a:latin typeface="Tw Cen MT"/>
              </a:rPr>
              <a:t>’</a:t>
            </a:r>
            <a:r>
              <a:rPr b="0" i="1" lang="en-US" sz="3000" spc="-1" strike="noStrike">
                <a:solidFill>
                  <a:srgbClr val="dd8047"/>
                </a:solidFill>
                <a:latin typeface="Tw Cen MT"/>
              </a:rPr>
              <a:t>s wild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We can look in a dictionary or glossary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We can look for context clues in the words and sentences around the unknown word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Today we will learn more about context clues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120" y="-990720"/>
            <a:ext cx="8534520" cy="74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Daily Fix-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the croud chears for me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The crowd cheers for me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I raned Around the basis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I ran around</a:t>
            </a:r>
            <a:r>
              <a:rPr b="1" lang="en-US" sz="4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en-US" sz="4800" spc="-1" strike="noStrike">
                <a:solidFill>
                  <a:srgbClr val="dd8047"/>
                </a:solidFill>
                <a:latin typeface="Tw Cen MT"/>
              </a:rPr>
              <a:t>the bases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apital Lett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8580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Special names for people, places, animals, and things are called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proper</a:t>
            </a:r>
            <a:r>
              <a:rPr b="1" lang="en-US" sz="33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noun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Names of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countri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are proper nouns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How do the names of </a:t>
            </a:r>
            <a:r>
              <a:rPr b="1" lang="en-US" sz="3300" spc="-1" strike="noStrike">
                <a:solidFill>
                  <a:srgbClr val="dd8047"/>
                </a:solidFill>
                <a:latin typeface="Tw Cen MT"/>
              </a:rPr>
              <a:t>countries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begin?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4b6d2"/>
                </a:solidFill>
                <a:latin typeface="Tw Cen MT"/>
              </a:rPr>
              <a:t>Mexico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4b6d2"/>
                </a:solidFill>
                <a:latin typeface="Tw Cen MT"/>
              </a:rPr>
              <a:t>Italy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4b6d2"/>
                </a:solidFill>
                <a:latin typeface="Tw Cen MT"/>
              </a:rPr>
              <a:t>United Stat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Wrap Up Your Day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Lesson Vocabular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Visualiz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Let</a:t>
            </a:r>
            <a:r>
              <a:rPr b="0" lang="ja-JP" sz="33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s Talk About I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omorrow they will hear about some princesses and their secret pastim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256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uesday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447920" y="251460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a time you got a chance to play something you'd always wanted to pla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56152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Wednesday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533520" y="2362320"/>
          <a:ext cx="8229600" cy="36018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60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 upon a time, there were twelve princesses. These girls liked to play basketball every night.  They wore special high-top shoes.  Today we will read about  a special ball they had. What do you think the ball will be like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6160" y="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Wednesday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533520" y="2362320"/>
          <a:ext cx="8229600" cy="36018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60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 upon a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tim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here were twelve princesses. These girls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liked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play basketball every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night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They wore special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high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op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hoes.  Today we will read about  a special ball they had. What do you think the ball will be </a:t>
                      </a:r>
                      <a:r>
                        <a:rPr b="1" lang="en-US" sz="32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like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oday we will learn abou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mazing Word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Vowels </a:t>
            </a:r>
            <a:r>
              <a:rPr b="0" i="1" lang="en-US" sz="3300" spc="-1" strike="noStrike">
                <a:solidFill>
                  <a:srgbClr val="dd8047"/>
                </a:solidFill>
                <a:latin typeface="Tw Cen MT"/>
              </a:rPr>
              <a:t>aw, au, augh, al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Contraction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Homophon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Sentenc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Capital Letter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9" name=""/>
          <p:cNvGraphicFramePr/>
          <p:nvPr/>
        </p:nvGraphicFramePr>
        <p:xfrm>
          <a:off x="1600200" y="2971800"/>
          <a:ext cx="6095880" cy="1736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Just Like Josh Gibson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4000"/>
            </a:br>
            <a:r>
              <a:rPr b="0" lang="en-US" sz="2500" spc="-1" strike="noStrike">
                <a:solidFill>
                  <a:srgbClr val="775f55"/>
                </a:solidFill>
                <a:latin typeface="Tw Cen MT"/>
              </a:rPr>
              <a:t>Monday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990720" y="2133720"/>
          <a:ext cx="7467480" cy="370044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370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will read about a girl who played baseball long ago.  She liked running toward first base.  She enjoyed playing baseball.  Why are sports important in our country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professiona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76176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pro – fes –sion - al</a:t>
            </a:r>
            <a:r>
              <a:rPr b="1" lang="en-US" sz="3300" spc="-1" strike="noStrike">
                <a:solidFill>
                  <a:srgbClr val="775f55"/>
                </a:solidFill>
                <a:latin typeface="Verdana"/>
                <a:ea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Professional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describes a type of job in which people are paid for their skill and training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My uncle is a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professional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basketball player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I want to be a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professional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singer when I grow up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Verdana"/>
                <a:ea typeface="Arial"/>
              </a:rPr>
              <a:t>shortstop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76176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short - stop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Shortstop</a:t>
            </a:r>
            <a:r>
              <a:rPr b="1" lang="en-US" sz="3300" spc="-1" strike="noStrike">
                <a:solidFill>
                  <a:srgbClr val="775f55"/>
                </a:solidFill>
                <a:latin typeface="Verdana"/>
                <a:ea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is the infield position on a baseball team between second and third bas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I would prefer playing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shortstop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rather than third bas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Our baseball team has the best </a:t>
            </a:r>
            <a:r>
              <a:rPr b="1" lang="en-US" sz="3300" spc="-1" strike="noStrike">
                <a:solidFill>
                  <a:srgbClr val="dd8047"/>
                </a:solidFill>
                <a:latin typeface="Verdana"/>
                <a:ea typeface="Arial"/>
              </a:rPr>
              <a:t>shortstop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Arial"/>
              </a:rPr>
              <a:t> in the league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wful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You can read this word because you know that 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aw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can stand for the sound /o/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auto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caugh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walk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wels aw, au, augh, al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, fault, draw, talk, taught, launch,  saw, thaw, chalk, caught, stalk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609480" y="2666880"/>
          <a:ext cx="7772400" cy="3326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3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u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dd8047"/>
                          </a:solidFill>
                          <a:latin typeface="Arial"/>
                        </a:rPr>
                        <a:t>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gus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ul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ugh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unc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teacher</cp:lastModifiedBy>
  <dcterms:modified xsi:type="dcterms:W3CDTF">2013-03-25T02:51:29Z</dcterms:modified>
  <cp:revision>43</cp:revision>
  <dc:subject/>
  <dc:title>Slide 1</dc:title>
</cp:coreProperties>
</file>